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4F62-075C-4459-9A61-8BEE6D0A9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FF2F-6734-485D-8D9B-E2FA6778E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E223-801B-4110-908F-44EAC291C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4594-6F00-44E8-9688-D57D68E8A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12DE6-9F0C-474E-9F63-5A4CC592F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3876-1292-4887-9EA6-4295363CC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3187-5156-4252-871F-92B970F96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A378-CB0B-4F0C-A3BE-36CE3D4EF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69EE-C992-41B4-92C5-29DB6FF45F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20F4-FD47-4E38-9D83-723B811A1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3579-0CE0-4A41-B29D-932E41596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9966-E6D2-4626-B88C-952AAC806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46520" y="6248520"/>
            <a:ext cx="311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78D-7790-4FE4-906C-BE1E5EBA399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741888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94200"/>
            <a:ext cx="9080640" cy="36831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Bell Ringer: </a:t>
            </a:r>
            <a:br>
              <a:rPr sz="4400"/>
            </a:b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2476080"/>
            <a:ext cx="908064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yesterday’s notes what do you believe is the most important concept in Buddhism to achieve Nirvan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742536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11: HAN POST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G 12: DYNASTIES C-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418880" y="6248520"/>
            <a:ext cx="18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Shang (1700 BC - 1027 BC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1st recorded Dyna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st Chinese c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3e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Developed writing, worked with bronze, created sil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ed ancestors, used oracle b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ng tyrant emperor overth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819520" cy="2114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701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Zhou (1027 BC - 250 BC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314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Longest lasting Dynas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roads, expanded tra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Taoism and Confucianism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Han (202 BC - 221 AD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5436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Buddhism introduced, paper inv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Silk Roads developed-open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madic ra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ion, weak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e of bureau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430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Tang (618 AD - 907 AD)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18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dhism supported, then op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Invention of movable print, porcelain, gun pow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u Zetian - Only Empress in Chinese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 emperors, nomadic incursions, economic difficu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 M</dc:creator>
  <dc:description/>
  <cp:keywords/>
  <dc:language>en-US</dc:language>
  <cp:lastModifiedBy>Tyler Daughtry</cp:lastModifiedBy>
  <dcterms:modified xsi:type="dcterms:W3CDTF">2013-11-08T14:59:21Z</dcterms:modified>
  <cp:revision>1</cp:revision>
  <dc:subject/>
  <dc:title>Chinese Dynasty Overview</dc:title>
</cp:coreProperties>
</file>